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0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28A1-8FB2-4A0E-8E18-BCCFF063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9DD-74B9-4E69-AF59-CAECAACC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C45-57D4-43BC-98F0-17C5C8E4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C5BA-2AE0-42CB-BCF5-43279265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C396-0C23-44E3-9442-D0CE808D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A9B6-2F92-402F-80FA-324F980F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701D-F007-41D9-A830-F8EA8E14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FA53-C232-4602-A26C-28183E21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A76E-4CF8-4CE9-98C2-EFF45D1F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BFC1-2D5C-4A29-B95D-532087B5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04FE-C955-490D-A658-EA15B32E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342-F542-4A53-877D-94B96ED5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CC5C-8648-4C2A-BE52-3D71BBBC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EF02-38E0-41AE-A63B-511E7008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6BEF-F3D8-4094-9C65-1841D2BA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1E15-9E9F-48E8-B721-B433F6FD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A1EC-4497-4F03-8D4C-3805A571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04A3-A47F-491D-976B-0F3625B7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8028-50E7-4C2C-90F9-2856EAAC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3C8-24AC-4C3F-8696-FD2EE1EE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9A4-3BA3-4C2F-8930-4CCBDE4C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E072-8F8F-4D37-AF12-523A2844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5CA-EABF-4F44-9930-DB237006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920-D1B9-4FE9-BAD0-ACBE67A3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E62D-B4A4-4A7F-A2B5-2963860BDC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2209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68A5-D2CF-4D36-BBC3-57EE4D3899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hyperlink" Target="http://www.google.ro/imgres?imgurl=http://www.clopotel.ro/enciclopedia/resources/File/vulturica.jpg&amp;imgrefurl=http://www.clopotel.ro/enciclopedia/Ecologia_animalelor_Ecologia_pasarilor-456.html&amp;usg=__DLMMt6I1fzJYKqrxymtdfNM3HHA=&amp;h=160&amp;w=240&amp;sz=8&amp;hl=ro&amp;start=5&amp;sig2=5Z_RSQJ5kueKrilJDJUlVQ&amp;zoom=1&amp;itbs=1&amp;tbnid=hBVmiVpfzHl1uM:&amp;tbnh=73&amp;tbnw=110&amp;prev=/images%3Fq%3Drapitoare%2Bde%2Bzi%26hl%3Dro%26gbv%3D2%26ndsp%3D20%26tbm%3Disch&amp;ei=qRSeTcXWFsvAswbVpMCqBA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2209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Prezentare pentru identificarea nevoilor elevilor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a AV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82120" y="5877000"/>
            <a:ext cx="35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f. Nicola A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iceul Teoretic Alexandru Vlahu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508720" y="3357720"/>
            <a:ext cx="1800000" cy="12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19280" y="260280"/>
            <a:ext cx="73296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Arial Black"/>
              </a:rPr>
              <a:t>1.Ce stiu despre pasari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t animale verteb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t superioare reptile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deplaseaza prin z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t diverse,ocupand medii diferite de vi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inmultesc prin oua pe care le cloce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7960" cy="1649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724360" y="3500280"/>
            <a:ext cx="1295640" cy="870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451640" y="5229360"/>
            <a:ext cx="1225800" cy="877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5940360" y="1413000"/>
            <a:ext cx="1295640" cy="1511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Arial Black"/>
              </a:rPr>
              <a:t>2.Ce vreau sa stiu?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Care sunt grupele de pasari?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52320" y="2937960"/>
            <a:ext cx="6924600" cy="31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1452600" cy="1800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1413000"/>
            <a:ext cx="1728720" cy="431640"/>
          </a:xfrm>
          <a:prstGeom prst="wedgeRoundRectCallout">
            <a:avLst>
              <a:gd name="adj1" fmla="val 76171"/>
              <a:gd name="adj2" fmla="val 25220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urmato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3141720"/>
            <a:ext cx="1655640" cy="431640"/>
          </a:xfrm>
          <a:prstGeom prst="wedgeRoundRectCallout">
            <a:avLst>
              <a:gd name="adj1" fmla="val 79240"/>
              <a:gd name="adj2" fmla="val 219486"/>
              <a:gd name="adj3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atato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411280" y="3213000"/>
            <a:ext cx="1513080" cy="1873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5157720"/>
            <a:ext cx="1728720" cy="432000"/>
          </a:xfrm>
          <a:prstGeom prst="wedgeRoundRectCallout">
            <a:avLst>
              <a:gd name="adj1" fmla="val 62763"/>
              <a:gd name="adj2" fmla="val 177203"/>
              <a:gd name="adj3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va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195640" y="5157720"/>
            <a:ext cx="1728720" cy="1382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716360" y="1341360"/>
            <a:ext cx="1656000" cy="432000"/>
          </a:xfrm>
          <a:prstGeom prst="wedgeRoundRectCallout">
            <a:avLst>
              <a:gd name="adj1" fmla="val 69652"/>
              <a:gd name="adj2" fmla="val 289337"/>
              <a:gd name="adj3" fmla="val 16667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cioro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732720" y="1484280"/>
            <a:ext cx="1917720" cy="1433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427640" y="4797360"/>
            <a:ext cx="1871640" cy="863640"/>
          </a:xfrm>
          <a:prstGeom prst="wedgeRoundRectCallout">
            <a:avLst>
              <a:gd name="adj1" fmla="val 78245"/>
              <a:gd name="adj2" fmla="val 87865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pitoare de noap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877080" y="4869000"/>
            <a:ext cx="1584360" cy="1684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59640" y="3213000"/>
            <a:ext cx="2016000" cy="1336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427640" y="3068640"/>
            <a:ext cx="1871640" cy="504720"/>
          </a:xfrm>
          <a:prstGeom prst="wedgeRoundRectCallout">
            <a:avLst>
              <a:gd name="adj1" fmla="val 68490"/>
              <a:gd name="adj2" fmla="val 197171"/>
              <a:gd name="adj3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pitoare de z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92360" y="83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1259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82" h="21600">
                <a:moveTo>
                  <a:pt x="13696" y="14281"/>
                </a:moveTo>
                <a:lnTo>
                  <a:pt x="13696" y="12323"/>
                </a:lnTo>
                <a:cubicBezTo>
                  <a:pt x="13696" y="11496"/>
                  <a:pt x="14027" y="10800"/>
                  <a:pt x="14628" y="10800"/>
                </a:cubicBezTo>
                <a:cubicBezTo>
                  <a:pt x="15759" y="10800"/>
                  <a:pt x="16656" y="9434"/>
                  <a:pt x="16656" y="7849"/>
                </a:cubicBezTo>
                <a:cubicBezTo>
                  <a:pt x="16656" y="5534"/>
                  <a:pt x="14802" y="3794"/>
                  <a:pt x="12591" y="3794"/>
                </a:cubicBezTo>
                <a:cubicBezTo>
                  <a:pt x="10380" y="3794"/>
                  <a:pt x="8709" y="5534"/>
                  <a:pt x="8709" y="7849"/>
                </a:cubicBezTo>
                <a:lnTo>
                  <a:pt x="10563" y="7849"/>
                </a:lnTo>
                <a:cubicBezTo>
                  <a:pt x="10563" y="6709"/>
                  <a:pt x="11486" y="5821"/>
                  <a:pt x="12591" y="5821"/>
                </a:cubicBezTo>
                <a:cubicBezTo>
                  <a:pt x="13696" y="5821"/>
                  <a:pt x="14628" y="6709"/>
                  <a:pt x="14628" y="7849"/>
                </a:cubicBezTo>
                <a:cubicBezTo>
                  <a:pt x="14628" y="8589"/>
                  <a:pt x="14158" y="9320"/>
                  <a:pt x="13696" y="9320"/>
                </a:cubicBezTo>
                <a:cubicBezTo>
                  <a:pt x="12591" y="9320"/>
                  <a:pt x="11486" y="10800"/>
                  <a:pt x="11486" y="12323"/>
                </a:cubicBezTo>
                <a:lnTo>
                  <a:pt x="11486" y="14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6964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Arial Black"/>
              </a:rPr>
              <a:t>2.Ce vreau sa stiu?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26400" cy="34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 ce pot zbura pasari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e importanta au rapitoarele in relatiile trofice din        ecosiste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 ce au pasarile febra fara a fi bolnav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e specii de pasari sunt pe cale de dispariti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8428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61" h="21600">
                <a:moveTo>
                  <a:pt x="13686" y="14281"/>
                </a:moveTo>
                <a:lnTo>
                  <a:pt x="13686" y="12323"/>
                </a:lnTo>
                <a:cubicBezTo>
                  <a:pt x="13686" y="11496"/>
                  <a:pt x="14017" y="10800"/>
                  <a:pt x="14617" y="10800"/>
                </a:cubicBezTo>
                <a:cubicBezTo>
                  <a:pt x="15749" y="10800"/>
                  <a:pt x="16645" y="9434"/>
                  <a:pt x="16645" y="7849"/>
                </a:cubicBezTo>
                <a:cubicBezTo>
                  <a:pt x="16645" y="5534"/>
                  <a:pt x="14791" y="3794"/>
                  <a:pt x="12581" y="3794"/>
                </a:cubicBezTo>
                <a:cubicBezTo>
                  <a:pt x="10370" y="3794"/>
                  <a:pt x="8699" y="5534"/>
                  <a:pt x="8699" y="7849"/>
                </a:cubicBezTo>
                <a:lnTo>
                  <a:pt x="10553" y="7849"/>
                </a:lnTo>
                <a:cubicBezTo>
                  <a:pt x="10553" y="6709"/>
                  <a:pt x="11475" y="5821"/>
                  <a:pt x="12581" y="5821"/>
                </a:cubicBezTo>
                <a:cubicBezTo>
                  <a:pt x="13686" y="5821"/>
                  <a:pt x="14617" y="6709"/>
                  <a:pt x="14617" y="7849"/>
                </a:cubicBezTo>
                <a:cubicBezTo>
                  <a:pt x="14617" y="8589"/>
                  <a:pt x="14147" y="9320"/>
                  <a:pt x="13686" y="9320"/>
                </a:cubicBezTo>
                <a:cubicBezTo>
                  <a:pt x="12581" y="9320"/>
                  <a:pt x="11475" y="10800"/>
                  <a:pt x="11475" y="12323"/>
                </a:cubicBezTo>
                <a:lnTo>
                  <a:pt x="11475" y="14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2349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61" h="21600">
                <a:moveTo>
                  <a:pt x="13686" y="14281"/>
                </a:moveTo>
                <a:lnTo>
                  <a:pt x="13686" y="12323"/>
                </a:lnTo>
                <a:cubicBezTo>
                  <a:pt x="13686" y="11496"/>
                  <a:pt x="14017" y="10800"/>
                  <a:pt x="14617" y="10800"/>
                </a:cubicBezTo>
                <a:cubicBezTo>
                  <a:pt x="15749" y="10800"/>
                  <a:pt x="16645" y="9434"/>
                  <a:pt x="16645" y="7849"/>
                </a:cubicBezTo>
                <a:cubicBezTo>
                  <a:pt x="16645" y="5534"/>
                  <a:pt x="14791" y="3794"/>
                  <a:pt x="12581" y="3794"/>
                </a:cubicBezTo>
                <a:cubicBezTo>
                  <a:pt x="10370" y="3794"/>
                  <a:pt x="8699" y="5534"/>
                  <a:pt x="8699" y="7849"/>
                </a:cubicBezTo>
                <a:lnTo>
                  <a:pt x="10553" y="7849"/>
                </a:lnTo>
                <a:cubicBezTo>
                  <a:pt x="10553" y="6709"/>
                  <a:pt x="11475" y="5821"/>
                  <a:pt x="12581" y="5821"/>
                </a:cubicBezTo>
                <a:cubicBezTo>
                  <a:pt x="13686" y="5821"/>
                  <a:pt x="14617" y="6709"/>
                  <a:pt x="14617" y="7849"/>
                </a:cubicBezTo>
                <a:cubicBezTo>
                  <a:pt x="14617" y="8589"/>
                  <a:pt x="14147" y="9320"/>
                  <a:pt x="13686" y="9320"/>
                </a:cubicBezTo>
                <a:cubicBezTo>
                  <a:pt x="12581" y="9320"/>
                  <a:pt x="11475" y="10800"/>
                  <a:pt x="11475" y="12323"/>
                </a:cubicBezTo>
                <a:lnTo>
                  <a:pt x="11475" y="14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350028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61" h="21600">
                <a:moveTo>
                  <a:pt x="13686" y="14281"/>
                </a:moveTo>
                <a:lnTo>
                  <a:pt x="13686" y="12323"/>
                </a:lnTo>
                <a:cubicBezTo>
                  <a:pt x="13686" y="11496"/>
                  <a:pt x="14017" y="10800"/>
                  <a:pt x="14617" y="10800"/>
                </a:cubicBezTo>
                <a:cubicBezTo>
                  <a:pt x="15749" y="10800"/>
                  <a:pt x="16645" y="9434"/>
                  <a:pt x="16645" y="7849"/>
                </a:cubicBezTo>
                <a:cubicBezTo>
                  <a:pt x="16645" y="5534"/>
                  <a:pt x="14791" y="3794"/>
                  <a:pt x="12581" y="3794"/>
                </a:cubicBezTo>
                <a:cubicBezTo>
                  <a:pt x="10370" y="3794"/>
                  <a:pt x="8699" y="5534"/>
                  <a:pt x="8699" y="7849"/>
                </a:cubicBezTo>
                <a:lnTo>
                  <a:pt x="10553" y="7849"/>
                </a:lnTo>
                <a:cubicBezTo>
                  <a:pt x="10553" y="6709"/>
                  <a:pt x="11475" y="5821"/>
                  <a:pt x="12581" y="5821"/>
                </a:cubicBezTo>
                <a:cubicBezTo>
                  <a:pt x="13686" y="5821"/>
                  <a:pt x="14617" y="6709"/>
                  <a:pt x="14617" y="7849"/>
                </a:cubicBezTo>
                <a:cubicBezTo>
                  <a:pt x="14617" y="8589"/>
                  <a:pt x="14147" y="9320"/>
                  <a:pt x="13686" y="9320"/>
                </a:cubicBezTo>
                <a:cubicBezTo>
                  <a:pt x="12581" y="9320"/>
                  <a:pt x="11475" y="10800"/>
                  <a:pt x="11475" y="12323"/>
                </a:cubicBezTo>
                <a:lnTo>
                  <a:pt x="11475" y="14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443700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61" h="21600">
                <a:moveTo>
                  <a:pt x="13686" y="14281"/>
                </a:moveTo>
                <a:lnTo>
                  <a:pt x="13686" y="12323"/>
                </a:lnTo>
                <a:cubicBezTo>
                  <a:pt x="13686" y="11496"/>
                  <a:pt x="14017" y="10800"/>
                  <a:pt x="14617" y="10800"/>
                </a:cubicBezTo>
                <a:cubicBezTo>
                  <a:pt x="15749" y="10800"/>
                  <a:pt x="16645" y="9434"/>
                  <a:pt x="16645" y="7849"/>
                </a:cubicBezTo>
                <a:cubicBezTo>
                  <a:pt x="16645" y="5534"/>
                  <a:pt x="14791" y="3794"/>
                  <a:pt x="12581" y="3794"/>
                </a:cubicBezTo>
                <a:cubicBezTo>
                  <a:pt x="10370" y="3794"/>
                  <a:pt x="8699" y="5534"/>
                  <a:pt x="8699" y="7849"/>
                </a:cubicBezTo>
                <a:lnTo>
                  <a:pt x="10553" y="7849"/>
                </a:lnTo>
                <a:cubicBezTo>
                  <a:pt x="10553" y="6709"/>
                  <a:pt x="11475" y="5821"/>
                  <a:pt x="12581" y="5821"/>
                </a:cubicBezTo>
                <a:cubicBezTo>
                  <a:pt x="13686" y="5821"/>
                  <a:pt x="14617" y="6709"/>
                  <a:pt x="14617" y="7849"/>
                </a:cubicBezTo>
                <a:cubicBezTo>
                  <a:pt x="14617" y="8589"/>
                  <a:pt x="14147" y="9320"/>
                  <a:pt x="13686" y="9320"/>
                </a:cubicBezTo>
                <a:cubicBezTo>
                  <a:pt x="12581" y="9320"/>
                  <a:pt x="11475" y="10800"/>
                  <a:pt x="11475" y="12323"/>
                </a:cubicBezTo>
                <a:lnTo>
                  <a:pt x="11475" y="14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Arial Black"/>
              </a:rPr>
              <a:t>3.Ce am invatat?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981000"/>
            <a:ext cx="729612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racterele de superioritate ale pasarilor fata de repti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 sange ca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 inima tetracamer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 plamani performan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 instincte ( construiesc cuiburi, clocesc oua, ingrijesc pui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arile nu hiberneaza, fapt pentru care migrea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u dimorfism sexual pronunt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arile rapitoare sunt folositoare, interesante si intelig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9:08:19Z</dcterms:created>
  <dc:creator>Aura Nicola</dc:creator>
  <dc:description/>
  <dc:language>en-US</dc:language>
  <cp:lastModifiedBy>Aura Nicola</cp:lastModifiedBy>
  <dcterms:modified xsi:type="dcterms:W3CDTF">2011-04-08T04:38:04Z</dcterms:modified>
  <cp:revision>28</cp:revision>
  <dc:subject/>
  <dc:title>Slide 1</dc:title>
</cp:coreProperties>
</file>